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97A-1B15-45DD-A5F7-CD491ED1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102-4DD5-450C-8BBA-E31B9C1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25F-1D26-4039-A703-D8521287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94E-9B7C-48EE-A46E-EDADD03C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E243A-B624-42DF-ACCA-BE8CABC9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897CE-1E13-4E5E-9B7D-28C07203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7AA47-F7C7-4131-AE6A-2D2DDC4F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E4CCB-E63B-499B-A1CD-D94B2C4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79C17-2953-41A6-A913-4871CE53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53481-A724-4C1C-9726-85C8A992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5A7BC-8C98-491B-90EE-125BC00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A4B-19F8-4D77-8A0C-6BE8DF5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C5B96-1C85-4086-93C8-6107072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F0DD9-8629-40E5-A363-853EC6A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E050D-B63D-42FA-B66C-5B11B00F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A7270-1B4E-4202-A570-B1A1F3CE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35FE4-268C-42C4-AF3C-7BE02B2C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79C1-C0D2-4A1D-A945-21488A8D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2861-3465-4154-AD49-0091C792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1A9D-DB0B-4F33-AD88-1854E115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31C2-2641-46FD-8063-60BF049E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005E-C9C4-47E3-8A67-A87E42B1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EBC-1797-4A82-A2C0-4C1D4C91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5A9A4-9DC2-4A60-B7AF-A745210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1019-826E-4357-9E98-613909B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AE9C-2281-4DC6-8446-34A46B9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4F483-5496-4545-80DC-8925F1C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A81B-7B56-46E7-A26E-ECFF3853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90B9-C8DC-4C57-8005-F6B99C6C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2E12-10BE-4D41-A729-97E18E61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2FDE5-7F4A-4969-8AC2-57246C6A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B4830-F94D-49DE-BB3F-A7A61B2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85EBF-58D9-49E6-9CA5-2C18865F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CAF-E57D-4721-9D02-D29D615C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DC998-4FB6-4851-ACAA-AB854088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6108B-E05E-45BB-ABC0-FB0ADA98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0407F0-63B2-4CF7-9F29-FCD82BFE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2555D-0229-4EC1-BBC9-7337556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0C649-91A3-4247-A490-E6E735F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46705-F9CD-4037-A586-39FB6E7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2D838-BBEE-448E-8412-C0C79850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3622A-C744-4F1D-A71B-F78E4280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B4776-7DD7-43A8-9657-4D2822A9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5B08B-1A15-45BE-A415-93CFE9AA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C2A-066D-47E8-9AD7-9A512B59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4C702-FA81-42B3-9C27-9FE5B88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FB73E-4924-48C0-AC0F-5DC18362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7099B-34D3-4F63-AE43-77E5FF3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2BD68-CC61-42D4-88AC-000E5D6C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F0E04-E898-4A81-99AE-2F5DD1CC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4E0ED-278B-4040-BF8F-67D99D5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19BEE-644D-4EB9-A3D4-A11E9890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60541-A7E6-4197-A25E-CBE6BF47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129C4-B233-428F-80F0-2B5FF5CC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760A5-B48C-487D-B480-B0C679E6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E04-4C8B-47CD-96D8-3AF30CEE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919A4-CD69-491C-B645-B207038A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89576-B3CB-4528-9952-0B56F399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D8234-9E04-421F-B3FE-5713ACD7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1BC2E-59D2-4136-B23C-5EB16BC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6EA3F-F271-4DB1-AD43-68B4EC49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54EEB-C51C-436E-B334-0A4742F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6760D-37D1-4A00-97F2-6CC0874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C617D-D9D2-4F94-AD27-B56176BE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E778E-3F66-4F2D-87C4-C32B9B7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9D659E-0E86-4FE1-9023-B60A3B99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76E-8F1C-464E-875D-961D3DA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59A8E-1756-4487-960B-AEA57AC9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E3CCE-1D33-4E70-A0BF-C39733F1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5DE42-E0B0-4C42-9E01-58A3D479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01EE-CF3F-4BB8-AD1A-9428BF7C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C5A-F718-4191-BC40-57F928DE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8A4F-45D5-4A56-9DE6-760A906797F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8E4-FAE4-42AA-8CF1-ED565F2A04E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F3D1-345B-4BF2-80A8-CFD819E6E27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898E-946D-4991-AF62-6F63EDCB9B3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EC57-3D92-45C1-8359-E4A14257724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5227-7100-49AB-AD58-8D85040713D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3160" y="3733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ancye Duh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Grade 5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7576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2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5" descr="new mansarad.jpg"/>
          <p:cNvPicPr/>
          <p:nvPr/>
        </p:nvPicPr>
        <p:blipFill>
          <a:blip r:embed="rId2"/>
          <a:stretch/>
        </p:blipFill>
        <p:spPr>
          <a:xfrm>
            <a:off x="1828800" y="1600200"/>
            <a:ext cx="5613480" cy="4210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3" descr="hip_roof.jpg"/>
          <p:cNvPicPr/>
          <p:nvPr/>
        </p:nvPicPr>
        <p:blipFill>
          <a:blip r:embed="rId1"/>
          <a:stretch/>
        </p:blipFill>
        <p:spPr>
          <a:xfrm>
            <a:off x="1143000" y="2438280"/>
            <a:ext cx="6400800" cy="3359160"/>
          </a:xfrm>
          <a:prstGeom prst="rect">
            <a:avLst/>
          </a:prstGeom>
          <a:ln w="0">
            <a:noFill/>
          </a:ln>
        </p:spPr>
      </p:pic>
      <p:pic>
        <p:nvPicPr>
          <p:cNvPr id="257" name="Title 2" descr=""/>
          <p:cNvPicPr/>
          <p:nvPr/>
        </p:nvPicPr>
        <p:blipFill>
          <a:blip r:embed="rId2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Content Placeholder 3" descr="gambrel.jpg"/>
          <p:cNvPicPr/>
          <p:nvPr/>
        </p:nvPicPr>
        <p:blipFill>
          <a:blip r:embed="rId1"/>
          <a:stretch/>
        </p:blipFill>
        <p:spPr>
          <a:xfrm>
            <a:off x="1611360" y="1523880"/>
            <a:ext cx="5921280" cy="4572000"/>
          </a:xfrm>
          <a:prstGeom prst="rect">
            <a:avLst/>
          </a:prstGeom>
          <a:ln w="0">
            <a:noFill/>
          </a:ln>
        </p:spPr>
      </p:pic>
      <p:pic>
        <p:nvPicPr>
          <p:cNvPr id="259" name="Title 2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63280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ontent Placeholder 3" descr="cable.jpg"/>
          <p:cNvPicPr/>
          <p:nvPr/>
        </p:nvPicPr>
        <p:blipFill>
          <a:blip r:embed="rId1"/>
          <a:stretch/>
        </p:blipFill>
        <p:spPr>
          <a:xfrm>
            <a:off x="2362320" y="2514600"/>
            <a:ext cx="4309920" cy="2928960"/>
          </a:xfrm>
          <a:prstGeom prst="rect">
            <a:avLst/>
          </a:prstGeom>
          <a:ln w="0">
            <a:noFill/>
          </a:ln>
        </p:spPr>
      </p:pic>
      <p:pic>
        <p:nvPicPr>
          <p:cNvPr id="261" name="Title 2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7404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Content Placeholder 3" descr="flat-roofing-02.jpg"/>
          <p:cNvPicPr/>
          <p:nvPr/>
        </p:nvPicPr>
        <p:blipFill>
          <a:blip r:embed="rId1"/>
          <a:stretch/>
        </p:blipFill>
        <p:spPr>
          <a:xfrm>
            <a:off x="1371600" y="1666800"/>
            <a:ext cx="6400800" cy="4286160"/>
          </a:xfrm>
          <a:prstGeom prst="rect">
            <a:avLst/>
          </a:prstGeom>
          <a:ln w="0">
            <a:noFill/>
          </a:ln>
        </p:spPr>
      </p:pic>
      <p:pic>
        <p:nvPicPr>
          <p:cNvPr id="263" name="Title 2" descr=""/>
          <p:cNvPicPr/>
          <p:nvPr/>
        </p:nvPicPr>
        <p:blipFill>
          <a:blip r:embed="rId2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43800" cy="1231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80520" y="2285640"/>
            <a:ext cx="3048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le of the hou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 of clima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own personal tas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Content Placeholder 4" descr="combo.jpg"/>
          <p:cNvPicPr/>
          <p:nvPr/>
        </p:nvPicPr>
        <p:blipFill>
          <a:blip r:embed="rId2"/>
          <a:stretch/>
        </p:blipFill>
        <p:spPr>
          <a:xfrm>
            <a:off x="3581280" y="1676520"/>
            <a:ext cx="4973760" cy="3730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9:07:19Z</dcterms:created>
  <dc:creator>rtc02</dc:creator>
  <dc:description/>
  <dc:language>en-US</dc:language>
  <cp:lastModifiedBy>rtc02</cp:lastModifiedBy>
  <dcterms:modified xsi:type="dcterms:W3CDTF">2009-06-17T20:05:49Z</dcterms:modified>
  <cp:revision>12</cp:revision>
  <dc:subject/>
  <dc:title>What Types of Roofs Did I see on My Road Trip?</dc:title>
</cp:coreProperties>
</file>